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B5AE-2CB9-49A9-A8D2-32EC00171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631E-59E8-4E72-B93B-2D4C5583A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1814-964A-4274-AA81-8F3402B39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31AA-BE52-40BB-9F2B-855BFD21A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F7FE-8ABE-456D-8E0E-52796592A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AB23-3CA1-44D9-A252-3A2CA9A9E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E778-636D-401B-B303-29A0B83FA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133F-FC83-4005-8DA1-7FF2AC889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A6CA-B8E2-4991-A544-9B08BF4E57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BA7B-D012-453F-8956-723916B43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F73A-77BB-4B7C-9730-7C5046999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205A-2B1C-4DDB-81DB-774D750E0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7AF4-0D7C-4187-B618-F01C2C0D66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E458-0D4E-4D0D-842F-80B7E8F34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C687-C48B-4342-BC31-CBE94F23FA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0B56-560B-4FA9-91C1-4ECDFEA74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C5B6-60C4-463D-9DFA-B3817986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045-B527-46DC-AFA3-7C1B0856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E71-BE9E-462E-BFBE-777BDE97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CA7-C139-4F14-BEDC-2DE2DF4F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9DC-7AFD-4D14-B816-2F308444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810-E730-4BBB-8559-9CDBEC66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44F-8572-4A91-804D-5750789E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92F-16C4-4AEC-BAB3-A37E018C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64F-0B94-4175-BFEF-2470515A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F2F-909E-4198-BC7E-0CC3E4EB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341-0559-43A7-B1AA-5D44C30B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3E1-475B-4F4B-91E0-97F5AC99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A72C-BBA5-4F47-9FEE-5791028B3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216440" y="762120"/>
            <a:ext cx="693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op 3 European countrie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247400" y="2438280"/>
            <a:ext cx="5895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England/Brita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Fran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Spa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www.johomaps.com/na/nablank.jpg"/>
          <p:cNvPicPr/>
          <p:nvPr/>
        </p:nvPicPr>
        <p:blipFill>
          <a:blip r:embed="rId1"/>
          <a:stretch/>
        </p:blipFill>
        <p:spPr>
          <a:xfrm>
            <a:off x="2666880" y="2089080"/>
            <a:ext cx="4165560" cy="4540320"/>
          </a:xfrm>
          <a:prstGeom prst="rect">
            <a:avLst/>
          </a:prstGeom>
          <a:ln w="0">
            <a:noFill/>
          </a:ln>
        </p:spPr>
      </p:pic>
      <p:sp>
        <p:nvSpPr>
          <p:cNvPr id="103" name="Freeform 2"/>
          <p:cNvSpPr/>
          <p:nvPr/>
        </p:nvSpPr>
        <p:spPr>
          <a:xfrm>
            <a:off x="4950000" y="5021280"/>
            <a:ext cx="307800" cy="1163520"/>
          </a:xfrm>
          <a:custGeom>
            <a:avLst/>
            <a:gdLst/>
            <a:ahLst/>
            <a:rect l="l" t="t" r="r" b="b"/>
            <a:pathLst>
              <a:path w="308447" h="1163786">
                <a:moveTo>
                  <a:pt x="100629" y="19324"/>
                </a:moveTo>
                <a:cubicBezTo>
                  <a:pt x="0" y="170268"/>
                  <a:pt x="83493" y="0"/>
                  <a:pt x="121411" y="123233"/>
                </a:cubicBezTo>
                <a:cubicBezTo>
                  <a:pt x="204666" y="393813"/>
                  <a:pt x="52286" y="321864"/>
                  <a:pt x="204538" y="372615"/>
                </a:cubicBezTo>
                <a:cubicBezTo>
                  <a:pt x="211465" y="393397"/>
                  <a:pt x="225320" y="413055"/>
                  <a:pt x="225320" y="434961"/>
                </a:cubicBezTo>
                <a:cubicBezTo>
                  <a:pt x="225320" y="473253"/>
                  <a:pt x="209348" y="591595"/>
                  <a:pt x="183756" y="642779"/>
                </a:cubicBezTo>
                <a:cubicBezTo>
                  <a:pt x="172586" y="665119"/>
                  <a:pt x="156047" y="684342"/>
                  <a:pt x="142192" y="705124"/>
                </a:cubicBezTo>
                <a:lnTo>
                  <a:pt x="100629" y="829815"/>
                </a:lnTo>
                <a:lnTo>
                  <a:pt x="79847" y="892161"/>
                </a:lnTo>
                <a:cubicBezTo>
                  <a:pt x="86774" y="961434"/>
                  <a:pt x="76838" y="1034552"/>
                  <a:pt x="100629" y="1099979"/>
                </a:cubicBezTo>
                <a:cubicBezTo>
                  <a:pt x="108115" y="1120566"/>
                  <a:pt x="141722" y="1115448"/>
                  <a:pt x="162974" y="1120761"/>
                </a:cubicBezTo>
                <a:cubicBezTo>
                  <a:pt x="281170" y="1150310"/>
                  <a:pt x="244638" y="1163786"/>
                  <a:pt x="308447" y="1099979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France 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2215080" y="762120"/>
            <a:ext cx="54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Great Lakes are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6022800" y="4530600"/>
            <a:ext cx="758880" cy="320760"/>
          </a:xfrm>
          <a:custGeom>
            <a:avLst/>
            <a:gdLst/>
            <a:ahLst/>
            <a:rect l="l" t="t" r="r" b="b"/>
            <a:pathLst>
              <a:path w="757912" h="320446">
                <a:moveTo>
                  <a:pt x="23977" y="311728"/>
                </a:moveTo>
                <a:cubicBezTo>
                  <a:pt x="73999" y="161661"/>
                  <a:pt x="0" y="320446"/>
                  <a:pt x="252577" y="228600"/>
                </a:cubicBezTo>
                <a:cubicBezTo>
                  <a:pt x="273164" y="221114"/>
                  <a:pt x="256253" y="179939"/>
                  <a:pt x="273359" y="166255"/>
                </a:cubicBezTo>
                <a:cubicBezTo>
                  <a:pt x="295662" y="148413"/>
                  <a:pt x="328777" y="152400"/>
                  <a:pt x="356486" y="145473"/>
                </a:cubicBezTo>
                <a:cubicBezTo>
                  <a:pt x="404977" y="0"/>
                  <a:pt x="356486" y="6927"/>
                  <a:pt x="460395" y="41564"/>
                </a:cubicBezTo>
                <a:cubicBezTo>
                  <a:pt x="474250" y="62346"/>
                  <a:pt x="484298" y="86248"/>
                  <a:pt x="501959" y="103909"/>
                </a:cubicBezTo>
                <a:cubicBezTo>
                  <a:pt x="542246" y="144196"/>
                  <a:pt x="575942" y="149352"/>
                  <a:pt x="626650" y="166255"/>
                </a:cubicBezTo>
                <a:cubicBezTo>
                  <a:pt x="647432" y="159328"/>
                  <a:pt x="673505" y="160963"/>
                  <a:pt x="688995" y="145473"/>
                </a:cubicBezTo>
                <a:cubicBezTo>
                  <a:pt x="757912" y="76556"/>
                  <a:pt x="673342" y="83128"/>
                  <a:pt x="730559" y="83128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952880" y="4419720"/>
            <a:ext cx="1295640" cy="838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www.johomaps.com/na/nablank.jpg"/>
          <p:cNvPicPr/>
          <p:nvPr/>
        </p:nvPicPr>
        <p:blipFill>
          <a:blip r:embed="rId1"/>
          <a:stretch/>
        </p:blipFill>
        <p:spPr>
          <a:xfrm>
            <a:off x="2666880" y="2089080"/>
            <a:ext cx="4165560" cy="4540320"/>
          </a:xfrm>
          <a:prstGeom prst="rect">
            <a:avLst/>
          </a:prstGeom>
          <a:ln w="0">
            <a:noFill/>
          </a:ln>
        </p:spPr>
      </p:pic>
      <p:sp>
        <p:nvSpPr>
          <p:cNvPr id="109" name="Freeform 2"/>
          <p:cNvSpPr/>
          <p:nvPr/>
        </p:nvSpPr>
        <p:spPr>
          <a:xfrm>
            <a:off x="4950000" y="5021280"/>
            <a:ext cx="307800" cy="1163520"/>
          </a:xfrm>
          <a:custGeom>
            <a:avLst/>
            <a:gdLst/>
            <a:ahLst/>
            <a:rect l="l" t="t" r="r" b="b"/>
            <a:pathLst>
              <a:path w="308447" h="1163786">
                <a:moveTo>
                  <a:pt x="100629" y="19324"/>
                </a:moveTo>
                <a:cubicBezTo>
                  <a:pt x="0" y="170268"/>
                  <a:pt x="83493" y="0"/>
                  <a:pt x="121411" y="123233"/>
                </a:cubicBezTo>
                <a:cubicBezTo>
                  <a:pt x="204666" y="393813"/>
                  <a:pt x="52286" y="321864"/>
                  <a:pt x="204538" y="372615"/>
                </a:cubicBezTo>
                <a:cubicBezTo>
                  <a:pt x="211465" y="393397"/>
                  <a:pt x="225320" y="413055"/>
                  <a:pt x="225320" y="434961"/>
                </a:cubicBezTo>
                <a:cubicBezTo>
                  <a:pt x="225320" y="473253"/>
                  <a:pt x="209348" y="591595"/>
                  <a:pt x="183756" y="642779"/>
                </a:cubicBezTo>
                <a:cubicBezTo>
                  <a:pt x="172586" y="665119"/>
                  <a:pt x="156047" y="684342"/>
                  <a:pt x="142192" y="705124"/>
                </a:cubicBezTo>
                <a:lnTo>
                  <a:pt x="100629" y="829815"/>
                </a:lnTo>
                <a:lnTo>
                  <a:pt x="79847" y="892161"/>
                </a:lnTo>
                <a:cubicBezTo>
                  <a:pt x="86774" y="961434"/>
                  <a:pt x="76838" y="1034552"/>
                  <a:pt x="100629" y="1099979"/>
                </a:cubicBezTo>
                <a:cubicBezTo>
                  <a:pt x="108115" y="1120566"/>
                  <a:pt x="141722" y="1115448"/>
                  <a:pt x="162974" y="1120761"/>
                </a:cubicBezTo>
                <a:cubicBezTo>
                  <a:pt x="281170" y="1150310"/>
                  <a:pt x="244638" y="1163786"/>
                  <a:pt x="308447" y="1099979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France 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5"/>
          <p:cNvSpPr/>
          <p:nvPr/>
        </p:nvSpPr>
        <p:spPr>
          <a:xfrm>
            <a:off x="6022800" y="4530600"/>
            <a:ext cx="758880" cy="320760"/>
          </a:xfrm>
          <a:custGeom>
            <a:avLst/>
            <a:gdLst/>
            <a:ahLst/>
            <a:rect l="l" t="t" r="r" b="b"/>
            <a:pathLst>
              <a:path w="757912" h="320446">
                <a:moveTo>
                  <a:pt x="23977" y="311728"/>
                </a:moveTo>
                <a:cubicBezTo>
                  <a:pt x="73999" y="161661"/>
                  <a:pt x="0" y="320446"/>
                  <a:pt x="252577" y="228600"/>
                </a:cubicBezTo>
                <a:cubicBezTo>
                  <a:pt x="273164" y="221114"/>
                  <a:pt x="256253" y="179939"/>
                  <a:pt x="273359" y="166255"/>
                </a:cubicBezTo>
                <a:cubicBezTo>
                  <a:pt x="295662" y="148413"/>
                  <a:pt x="328777" y="152400"/>
                  <a:pt x="356486" y="145473"/>
                </a:cubicBezTo>
                <a:cubicBezTo>
                  <a:pt x="404977" y="0"/>
                  <a:pt x="356486" y="6927"/>
                  <a:pt x="460395" y="41564"/>
                </a:cubicBezTo>
                <a:cubicBezTo>
                  <a:pt x="474250" y="62346"/>
                  <a:pt x="484298" y="86248"/>
                  <a:pt x="501959" y="103909"/>
                </a:cubicBezTo>
                <a:cubicBezTo>
                  <a:pt x="542246" y="144196"/>
                  <a:pt x="575942" y="149352"/>
                  <a:pt x="626650" y="166255"/>
                </a:cubicBezTo>
                <a:cubicBezTo>
                  <a:pt x="647432" y="159328"/>
                  <a:pt x="673505" y="160963"/>
                  <a:pt x="688995" y="145473"/>
                </a:cubicBezTo>
                <a:cubicBezTo>
                  <a:pt x="757912" y="76556"/>
                  <a:pt x="673342" y="83128"/>
                  <a:pt x="730559" y="83128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8"/>
          <p:cNvSpPr/>
          <p:nvPr/>
        </p:nvSpPr>
        <p:spPr>
          <a:xfrm rot="20199000">
            <a:off x="5811840" y="4257360"/>
            <a:ext cx="1092240" cy="60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253440" y="914400"/>
            <a:ext cx="85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t. Lawrence River area into Cana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28600" y="2286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ngland in the Americas 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023560" y="762120"/>
            <a:ext cx="496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he 13 coloni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z.about.com/d/geography/1/0/9/H/usa3.jpg"/>
          <p:cNvPicPr/>
          <p:nvPr/>
        </p:nvPicPr>
        <p:blipFill>
          <a:blip r:embed="rId1"/>
          <a:srcRect l="0" t="10606" r="0" b="9091"/>
          <a:stretch/>
        </p:blipFill>
        <p:spPr>
          <a:xfrm>
            <a:off x="0" y="1981080"/>
            <a:ext cx="723888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228600" y="2286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ngland in the Americas 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2023560" y="762120"/>
            <a:ext cx="496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he 13 coloni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d-maps.com/m/colonies13/colonies1305.gif"/>
          <p:cNvPicPr/>
          <p:nvPr/>
        </p:nvPicPr>
        <p:blipFill>
          <a:blip r:embed="rId1"/>
          <a:stretch/>
        </p:blipFill>
        <p:spPr>
          <a:xfrm>
            <a:off x="2590920" y="1938240"/>
            <a:ext cx="36576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d-maps.com/m/colonies13/colonies1305.gif"/>
          <p:cNvPicPr/>
          <p:nvPr/>
        </p:nvPicPr>
        <p:blipFill>
          <a:blip r:embed="rId1"/>
          <a:srcRect l="49964" t="14513" r="0" b="22221"/>
          <a:stretch/>
        </p:blipFill>
        <p:spPr>
          <a:xfrm>
            <a:off x="0" y="-11160"/>
            <a:ext cx="4038480" cy="6869160"/>
          </a:xfrm>
          <a:prstGeom prst="rect">
            <a:avLst/>
          </a:prstGeom>
          <a:ln w="0">
            <a:noFill/>
          </a:ln>
        </p:spPr>
      </p:pic>
      <p:cxnSp>
        <p:nvCxnSpPr>
          <p:cNvPr id="121" name="Straight Arrow Connector 3"/>
          <p:cNvCxnSpPr/>
          <p:nvPr/>
        </p:nvCxnSpPr>
        <p:spPr>
          <a:xfrm>
            <a:off x="2971800" y="1066320"/>
            <a:ext cx="137232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2" name="TextBox 5"/>
          <p:cNvSpPr/>
          <p:nvPr/>
        </p:nvSpPr>
        <p:spPr>
          <a:xfrm>
            <a:off x="4562640" y="762120"/>
            <a:ext cx="36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ssachusetts – 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6"/>
          <p:cNvCxnSpPr/>
          <p:nvPr/>
        </p:nvCxnSpPr>
        <p:spPr>
          <a:xfrm>
            <a:off x="2742840" y="533520"/>
            <a:ext cx="160092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4" name="TextBox 7"/>
          <p:cNvSpPr/>
          <p:nvPr/>
        </p:nvSpPr>
        <p:spPr>
          <a:xfrm>
            <a:off x="4512600" y="228600"/>
            <a:ext cx="388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ew Hampshire – N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Straight Arrow Connector 9"/>
          <p:cNvCxnSpPr/>
          <p:nvPr/>
        </p:nvCxnSpPr>
        <p:spPr>
          <a:xfrm>
            <a:off x="3276360" y="1522440"/>
            <a:ext cx="10674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6" name="TextBox 10"/>
          <p:cNvSpPr/>
          <p:nvPr/>
        </p:nvSpPr>
        <p:spPr>
          <a:xfrm>
            <a:off x="4587840" y="1244520"/>
            <a:ext cx="318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hode Island – R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12"/>
          <p:cNvSpPr/>
          <p:nvPr/>
        </p:nvSpPr>
        <p:spPr>
          <a:xfrm>
            <a:off x="2971800" y="1371600"/>
            <a:ext cx="30492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15"/>
          <p:cNvCxnSpPr/>
          <p:nvPr/>
        </p:nvCxnSpPr>
        <p:spPr>
          <a:xfrm>
            <a:off x="3261960" y="1902960"/>
            <a:ext cx="106740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9" name="TextBox 16"/>
          <p:cNvSpPr/>
          <p:nvPr/>
        </p:nvSpPr>
        <p:spPr>
          <a:xfrm>
            <a:off x="4578120" y="1625760"/>
            <a:ext cx="31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nnecticut – CT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17"/>
          <p:cNvSpPr/>
          <p:nvPr/>
        </p:nvSpPr>
        <p:spPr>
          <a:xfrm>
            <a:off x="2743200" y="1447920"/>
            <a:ext cx="51912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1773720" y="990720"/>
            <a:ext cx="6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1361520" y="18543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Straight Arrow Connector 24"/>
          <p:cNvCxnSpPr/>
          <p:nvPr/>
        </p:nvCxnSpPr>
        <p:spPr>
          <a:xfrm>
            <a:off x="2438280" y="2285640"/>
            <a:ext cx="1905840" cy="51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TextBox 25"/>
          <p:cNvSpPr/>
          <p:nvPr/>
        </p:nvSpPr>
        <p:spPr>
          <a:xfrm>
            <a:off x="4584960" y="2057400"/>
            <a:ext cx="29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ew Jersey – N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5" name="Straight Arrow Connector 30"/>
          <p:cNvCxnSpPr/>
          <p:nvPr/>
        </p:nvCxnSpPr>
        <p:spPr>
          <a:xfrm>
            <a:off x="2209320" y="2742840"/>
            <a:ext cx="21344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Box 31"/>
          <p:cNvSpPr/>
          <p:nvPr/>
        </p:nvSpPr>
        <p:spPr>
          <a:xfrm>
            <a:off x="4579920" y="2463840"/>
            <a:ext cx="27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elaware –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7" name="Straight Arrow Connector 33"/>
          <p:cNvCxnSpPr/>
          <p:nvPr/>
        </p:nvCxnSpPr>
        <p:spPr>
          <a:xfrm>
            <a:off x="3261960" y="3351240"/>
            <a:ext cx="10674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8" name="TextBox 34"/>
          <p:cNvSpPr/>
          <p:nvPr/>
        </p:nvSpPr>
        <p:spPr>
          <a:xfrm>
            <a:off x="4574160" y="307332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ryland – M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35"/>
          <p:cNvSpPr/>
          <p:nvPr/>
        </p:nvSpPr>
        <p:spPr>
          <a:xfrm>
            <a:off x="1905120" y="2895480"/>
            <a:ext cx="135720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7"/>
          <p:cNvSpPr/>
          <p:nvPr/>
        </p:nvSpPr>
        <p:spPr>
          <a:xfrm>
            <a:off x="1908720" y="838080"/>
            <a:ext cx="4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38"/>
          <p:cNvSpPr/>
          <p:nvPr/>
        </p:nvSpPr>
        <p:spPr>
          <a:xfrm>
            <a:off x="1451520" y="1760400"/>
            <a:ext cx="4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9"/>
          <p:cNvSpPr/>
          <p:nvPr/>
        </p:nvSpPr>
        <p:spPr>
          <a:xfrm>
            <a:off x="1288080" y="3073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40"/>
          <p:cNvSpPr/>
          <p:nvPr/>
        </p:nvSpPr>
        <p:spPr>
          <a:xfrm>
            <a:off x="1223640" y="3987720"/>
            <a:ext cx="6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41"/>
          <p:cNvSpPr/>
          <p:nvPr/>
        </p:nvSpPr>
        <p:spPr>
          <a:xfrm>
            <a:off x="842760" y="4673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42"/>
          <p:cNvSpPr/>
          <p:nvPr/>
        </p:nvSpPr>
        <p:spPr>
          <a:xfrm>
            <a:off x="397440" y="5334120"/>
            <a:ext cx="6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43"/>
          <p:cNvSpPr/>
          <p:nvPr/>
        </p:nvSpPr>
        <p:spPr>
          <a:xfrm>
            <a:off x="1362600" y="2971800"/>
            <a:ext cx="4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44"/>
          <p:cNvSpPr/>
          <p:nvPr/>
        </p:nvSpPr>
        <p:spPr>
          <a:xfrm>
            <a:off x="1362600" y="3894120"/>
            <a:ext cx="4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45"/>
          <p:cNvSpPr/>
          <p:nvPr/>
        </p:nvSpPr>
        <p:spPr>
          <a:xfrm>
            <a:off x="905400" y="4495680"/>
            <a:ext cx="4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6"/>
          <p:cNvSpPr/>
          <p:nvPr/>
        </p:nvSpPr>
        <p:spPr>
          <a:xfrm>
            <a:off x="524160" y="5181480"/>
            <a:ext cx="4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228600" y="2286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ngland in the Americas 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023560" y="762120"/>
            <a:ext cx="496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he 13 coloni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www.brtprojects.org/cyberschool/history/images2/13colonies.gif"/>
          <p:cNvPicPr/>
          <p:nvPr/>
        </p:nvPicPr>
        <p:blipFill>
          <a:blip r:embed="rId1"/>
          <a:stretch/>
        </p:blipFill>
        <p:spPr>
          <a:xfrm>
            <a:off x="2438280" y="1913040"/>
            <a:ext cx="426744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295280" y="228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pain in the Americas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Spai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57200" y="208116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South America (except Brazil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Mexic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FL, TX, NM, AZ, C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295280" y="22860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France in the Americas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France…Louisiana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57200" y="1828800"/>
            <a:ext cx="8534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Mississippi River to Rocky Mountain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Great Lakes are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St. Lawrence River area into Canad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66680" y="2286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ngland in the Americas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13 Colonie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380880" y="198108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assachusetts – 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ew Hampshire – N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hode Island – 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necticut – 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4876920" y="1981080"/>
            <a:ext cx="41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00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alibri"/>
              </a:rPr>
              <a:t>Maryland –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alibri"/>
              </a:rPr>
              <a:t>Virginia – 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alibri"/>
              </a:rPr>
              <a:t>North Carolina – 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alibri"/>
              </a:rPr>
              <a:t>South Carolina – S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00ff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Calibri"/>
              </a:rPr>
              <a:t>Georgia - 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80880" y="405144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579b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79b"/>
                </a:solidFill>
                <a:latin typeface="Calibri"/>
              </a:rPr>
              <a:t>New York – 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579b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79b"/>
                </a:solidFill>
                <a:latin typeface="Calibri"/>
              </a:rPr>
              <a:t>New Jersey – N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579b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79b"/>
                </a:solidFill>
                <a:latin typeface="Calibri"/>
              </a:rPr>
              <a:t>Pennsylvania – 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buClr>
                <a:srgbClr val="ff579b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79b"/>
                </a:solidFill>
                <a:latin typeface="Calibri"/>
              </a:rPr>
              <a:t>Delaware - 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clker.com/cliparts/2/f/a/e/1197098819441524037bubba_europe_outline.svg.hi.png"/>
          <p:cNvPicPr/>
          <p:nvPr/>
        </p:nvPicPr>
        <p:blipFill>
          <a:blip r:embed="rId1"/>
          <a:stretch/>
        </p:blipFill>
        <p:spPr>
          <a:xfrm>
            <a:off x="2438280" y="1150920"/>
            <a:ext cx="4496040" cy="5445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1216440" y="76320"/>
            <a:ext cx="693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op 3 European countries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Straight Arrow Connector 4"/>
          <p:cNvCxnSpPr/>
          <p:nvPr/>
        </p:nvCxnSpPr>
        <p:spPr>
          <a:xfrm flipH="1">
            <a:off x="1828440" y="5561640"/>
            <a:ext cx="1296000" cy="752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1" name="5-Point Star 7"/>
          <p:cNvSpPr/>
          <p:nvPr/>
        </p:nvSpPr>
        <p:spPr>
          <a:xfrm>
            <a:off x="3124080" y="5257800"/>
            <a:ext cx="533520" cy="533520"/>
          </a:xfrm>
          <a:custGeom>
            <a:avLst/>
            <a:gdLst>
              <a:gd name="textAreaLeft" fmla="*/ 164880 w 533520"/>
              <a:gd name="textAreaRight" fmla="*/ 368640 w 53352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403560" y="5311800"/>
            <a:ext cx="13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Sp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Straight Arrow Connector 9"/>
          <p:cNvCxnSpPr>
            <a:endCxn id="64" idx="3"/>
          </p:cNvCxnSpPr>
          <p:nvPr/>
        </p:nvCxnSpPr>
        <p:spPr>
          <a:xfrm flipH="1">
            <a:off x="1898280" y="4723200"/>
            <a:ext cx="1759680" cy="104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5" name="5-Point Star 10"/>
          <p:cNvSpPr/>
          <p:nvPr/>
        </p:nvSpPr>
        <p:spPr>
          <a:xfrm>
            <a:off x="3733920" y="4419720"/>
            <a:ext cx="533160" cy="533160"/>
          </a:xfrm>
          <a:custGeom>
            <a:avLst/>
            <a:gdLst>
              <a:gd name="textAreaLeft" fmla="*/ 164520 w 533160"/>
              <a:gd name="textAreaRight" fmla="*/ 368640 w 533160"/>
              <a:gd name="textAreaTop" fmla="*/ 203760 h 533160"/>
              <a:gd name="textAreaBottom" fmla="*/ 407520 h 53316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309600" y="4473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13"/>
          <p:cNvCxnSpPr/>
          <p:nvPr/>
        </p:nvCxnSpPr>
        <p:spPr>
          <a:xfrm flipH="1">
            <a:off x="2133360" y="3961440"/>
            <a:ext cx="1296000" cy="752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5-Point Star 14"/>
          <p:cNvSpPr/>
          <p:nvPr/>
        </p:nvSpPr>
        <p:spPr>
          <a:xfrm>
            <a:off x="3429000" y="3657600"/>
            <a:ext cx="533520" cy="533520"/>
          </a:xfrm>
          <a:custGeom>
            <a:avLst/>
            <a:gdLst>
              <a:gd name="textAreaLeft" fmla="*/ 164880 w 533520"/>
              <a:gd name="textAreaRight" fmla="*/ 368640 w 53352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240840" y="3711600"/>
            <a:ext cx="186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Engl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.harpercollege.edu/mhealy/g101t/studygd/unit2/samer/smclosed.gif"/>
          <p:cNvPicPr/>
          <p:nvPr/>
        </p:nvPicPr>
        <p:blipFill>
          <a:blip r:embed="rId1"/>
          <a:stretch/>
        </p:blipFill>
        <p:spPr>
          <a:xfrm>
            <a:off x="2590920" y="2000160"/>
            <a:ext cx="4267080" cy="4857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228600" y="2286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Spain =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outh America (except ________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6478920" y="736560"/>
            <a:ext cx="193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Brazi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4867560" y="2286000"/>
            <a:ext cx="1145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www.evgschool.org/images/north_america_blank_2.JPG"/>
          <p:cNvPicPr/>
          <p:nvPr/>
        </p:nvPicPr>
        <p:blipFill>
          <a:blip r:embed="rId1"/>
          <a:stretch/>
        </p:blipFill>
        <p:spPr>
          <a:xfrm>
            <a:off x="2666880" y="1447920"/>
            <a:ext cx="4040280" cy="510516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685800" y="54144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Spain = 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4273200" y="304920"/>
            <a:ext cx="249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Mexic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Straight Arrow Connector 4"/>
          <p:cNvCxnSpPr/>
          <p:nvPr/>
        </p:nvCxnSpPr>
        <p:spPr>
          <a:xfrm flipH="1">
            <a:off x="2133000" y="5561640"/>
            <a:ext cx="1981800" cy="1530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5-Point Star 5"/>
          <p:cNvSpPr/>
          <p:nvPr/>
        </p:nvSpPr>
        <p:spPr>
          <a:xfrm>
            <a:off x="4114800" y="5257800"/>
            <a:ext cx="533520" cy="533520"/>
          </a:xfrm>
          <a:custGeom>
            <a:avLst/>
            <a:gdLst>
              <a:gd name="textAreaLeft" fmla="*/ 164880 w 533520"/>
              <a:gd name="textAreaRight" fmla="*/ 368640 w 533520"/>
              <a:gd name="textAreaTop" fmla="*/ 203760 h 533520"/>
              <a:gd name="textAreaBottom" fmla="*/ 407520 h 533520"/>
            </a:gdLst>
            <a:ahLst/>
            <a:rect l="textAreaLeft" t="textAreaTop" r="textAreaRight" b="textAreaBottom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30" y="533398"/>
                </a:lnTo>
                <a:lnTo>
                  <a:pt x="266700" y="407479"/>
                </a:lnTo>
                <a:lnTo>
                  <a:pt x="101870" y="533398"/>
                </a:lnTo>
                <a:lnTo>
                  <a:pt x="164831" y="329658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233640" y="5311800"/>
            <a:ext cx="172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Mexic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z.about.com/d/geography/1/0/9/H/usa3.jpg"/>
          <p:cNvPicPr/>
          <p:nvPr/>
        </p:nvPicPr>
        <p:blipFill>
          <a:blip r:embed="rId1"/>
          <a:stretch/>
        </p:blipFill>
        <p:spPr>
          <a:xfrm>
            <a:off x="1981080" y="2620800"/>
            <a:ext cx="5257800" cy="423720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228600" y="54144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Spain = 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3662640" y="304920"/>
            <a:ext cx="85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F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419720" y="279360"/>
            <a:ext cx="37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806000" y="330120"/>
            <a:ext cx="97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T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5639040" y="304920"/>
            <a:ext cx="37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951880" y="330120"/>
            <a:ext cx="134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NM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7162920" y="304920"/>
            <a:ext cx="37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433760" y="1270080"/>
            <a:ext cx="100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AZ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5342760" y="1244520"/>
            <a:ext cx="37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5576760" y="1270080"/>
            <a:ext cx="104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C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5795280" y="5613480"/>
            <a:ext cx="71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F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3977280" y="5257800"/>
            <a:ext cx="81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Calibri"/>
              </a:rPr>
              <a:t>TX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3358440" y="4978440"/>
            <a:ext cx="7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6"/>
          <p:cNvSpPr/>
          <p:nvPr/>
        </p:nvSpPr>
        <p:spPr>
          <a:xfrm>
            <a:off x="2859120" y="5038560"/>
            <a:ext cx="5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A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1909440" y="4343400"/>
            <a:ext cx="8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www.johomaps.com/na/nablank.jpg"/>
          <p:cNvPicPr/>
          <p:nvPr/>
        </p:nvPicPr>
        <p:blipFill>
          <a:blip r:embed="rId1"/>
          <a:stretch/>
        </p:blipFill>
        <p:spPr>
          <a:xfrm>
            <a:off x="2666880" y="2089080"/>
            <a:ext cx="4165560" cy="4540320"/>
          </a:xfrm>
          <a:prstGeom prst="rect">
            <a:avLst/>
          </a:prstGeom>
          <a:ln w="0">
            <a:noFill/>
          </a:ln>
        </p:spPr>
      </p:pic>
      <p:sp>
        <p:nvSpPr>
          <p:cNvPr id="96" name="Freeform 2"/>
          <p:cNvSpPr/>
          <p:nvPr/>
        </p:nvSpPr>
        <p:spPr>
          <a:xfrm>
            <a:off x="4950000" y="5021280"/>
            <a:ext cx="307800" cy="1163520"/>
          </a:xfrm>
          <a:custGeom>
            <a:avLst/>
            <a:gdLst/>
            <a:ahLst/>
            <a:rect l="l" t="t" r="r" b="b"/>
            <a:pathLst>
              <a:path w="308447" h="1163786">
                <a:moveTo>
                  <a:pt x="100629" y="19324"/>
                </a:moveTo>
                <a:cubicBezTo>
                  <a:pt x="0" y="170268"/>
                  <a:pt x="83493" y="0"/>
                  <a:pt x="121411" y="123233"/>
                </a:cubicBezTo>
                <a:cubicBezTo>
                  <a:pt x="204666" y="393813"/>
                  <a:pt x="52286" y="321864"/>
                  <a:pt x="204538" y="372615"/>
                </a:cubicBezTo>
                <a:cubicBezTo>
                  <a:pt x="211465" y="393397"/>
                  <a:pt x="225320" y="413055"/>
                  <a:pt x="225320" y="434961"/>
                </a:cubicBezTo>
                <a:cubicBezTo>
                  <a:pt x="225320" y="473253"/>
                  <a:pt x="209348" y="591595"/>
                  <a:pt x="183756" y="642779"/>
                </a:cubicBezTo>
                <a:cubicBezTo>
                  <a:pt x="172586" y="665119"/>
                  <a:pt x="156047" y="684342"/>
                  <a:pt x="142192" y="705124"/>
                </a:cubicBezTo>
                <a:lnTo>
                  <a:pt x="100629" y="829815"/>
                </a:lnTo>
                <a:lnTo>
                  <a:pt x="79847" y="892161"/>
                </a:lnTo>
                <a:cubicBezTo>
                  <a:pt x="86774" y="961434"/>
                  <a:pt x="76838" y="1034552"/>
                  <a:pt x="100629" y="1099979"/>
                </a:cubicBezTo>
                <a:cubicBezTo>
                  <a:pt x="108115" y="1120566"/>
                  <a:pt x="141722" y="1115448"/>
                  <a:pt x="162974" y="1120761"/>
                </a:cubicBezTo>
                <a:cubicBezTo>
                  <a:pt x="281170" y="1150310"/>
                  <a:pt x="244638" y="1163786"/>
                  <a:pt x="308447" y="1099979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ew France…Louisiana 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___________________________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76760" y="914400"/>
            <a:ext cx="88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ississippi River to Rocky Mount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5"/>
          <p:cNvSpPr/>
          <p:nvPr/>
        </p:nvSpPr>
        <p:spPr>
          <a:xfrm>
            <a:off x="6022800" y="4530600"/>
            <a:ext cx="758880" cy="320760"/>
          </a:xfrm>
          <a:custGeom>
            <a:avLst/>
            <a:gdLst/>
            <a:ahLst/>
            <a:rect l="l" t="t" r="r" b="b"/>
            <a:pathLst>
              <a:path w="757912" h="320446">
                <a:moveTo>
                  <a:pt x="23977" y="311728"/>
                </a:moveTo>
                <a:cubicBezTo>
                  <a:pt x="73999" y="161661"/>
                  <a:pt x="0" y="320446"/>
                  <a:pt x="252577" y="228600"/>
                </a:cubicBezTo>
                <a:cubicBezTo>
                  <a:pt x="273164" y="221114"/>
                  <a:pt x="256253" y="179939"/>
                  <a:pt x="273359" y="166255"/>
                </a:cubicBezTo>
                <a:cubicBezTo>
                  <a:pt x="295662" y="148413"/>
                  <a:pt x="328777" y="152400"/>
                  <a:pt x="356486" y="145473"/>
                </a:cubicBezTo>
                <a:cubicBezTo>
                  <a:pt x="404977" y="0"/>
                  <a:pt x="356486" y="6927"/>
                  <a:pt x="460395" y="41564"/>
                </a:cubicBezTo>
                <a:cubicBezTo>
                  <a:pt x="474250" y="62346"/>
                  <a:pt x="484298" y="86248"/>
                  <a:pt x="501959" y="103909"/>
                </a:cubicBezTo>
                <a:cubicBezTo>
                  <a:pt x="542246" y="144196"/>
                  <a:pt x="575942" y="149352"/>
                  <a:pt x="626650" y="166255"/>
                </a:cubicBezTo>
                <a:cubicBezTo>
                  <a:pt x="647432" y="159328"/>
                  <a:pt x="673505" y="160963"/>
                  <a:pt x="688995" y="145473"/>
                </a:cubicBezTo>
                <a:cubicBezTo>
                  <a:pt x="757912" y="76556"/>
                  <a:pt x="673342" y="83128"/>
                  <a:pt x="730559" y="83128"/>
                </a:cubicBezTo>
              </a:path>
            </a:pathLst>
          </a:custGeom>
          <a:noFill/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Straight Arrow Connector 7"/>
          <p:cNvCxnSpPr/>
          <p:nvPr/>
        </p:nvCxnSpPr>
        <p:spPr>
          <a:xfrm>
            <a:off x="4038480" y="5105160"/>
            <a:ext cx="915120" cy="766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Freeform 9"/>
          <p:cNvSpPr/>
          <p:nvPr/>
        </p:nvSpPr>
        <p:spPr>
          <a:xfrm>
            <a:off x="3740040" y="4281480"/>
            <a:ext cx="1414440" cy="1952640"/>
          </a:xfrm>
          <a:custGeom>
            <a:avLst/>
            <a:gdLst/>
            <a:ahLst/>
            <a:rect l="l" t="t" r="r" b="b"/>
            <a:pathLst>
              <a:path w="1413164" h="1953490">
                <a:moveTo>
                  <a:pt x="0" y="0"/>
                </a:moveTo>
                <a:lnTo>
                  <a:pt x="290946" y="1246909"/>
                </a:lnTo>
                <a:lnTo>
                  <a:pt x="1413164" y="1953490"/>
                </a:lnTo>
                <a:lnTo>
                  <a:pt x="1246909" y="249381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21:44:31Z</dcterms:created>
  <dc:creator>Valued Acer Customer</dc:creator>
  <dc:description/>
  <dc:language>en-US</dc:language>
  <cp:lastModifiedBy>.</cp:lastModifiedBy>
  <dcterms:modified xsi:type="dcterms:W3CDTF">2012-03-26T16:21:48Z</dcterms:modified>
  <cp:revision>13</cp:revision>
  <dc:subject/>
  <dc:title>Slide 1</dc:title>
</cp:coreProperties>
</file>